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90D-2656-435D-9B64-0B5EA05B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2C32-B82E-498A-B9F4-5F121605A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9B48-9A3B-4DC7-8AD9-3F2DC3F4E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0FF-8335-42BC-BC4E-7FB8E6094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CA7C-9C5D-4C03-8B82-28B57BD9D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2E65-1C14-4420-A2F0-28C051C56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48A-A80C-40FE-A0E7-A9D18660DF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EF78-90CD-4DD2-A276-1C51A7713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BFED-AEE3-400A-AF5F-29D5C0F69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053-053D-4F84-AE82-3757773D8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578A-AB48-412E-B5E0-8CA382E4B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6E3-B1F8-41EC-9A42-34A46AC8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B18-03DC-4EB0-A363-F656074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175-1E25-4607-91A3-7ECA1F2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A10-3691-4320-935E-522C5167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485-7F09-45F5-8940-4524360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F26D-3032-44CF-87C4-20B30418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F7F5-BDCC-466D-B0C0-A12F4C9E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EA8-B660-437C-96FA-E7FF89C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626D-CBF9-4CCB-A623-8EFD89E7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1E14-26AD-40CC-A76F-058F130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3CE-FA09-458E-9B7D-36D99020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168-6F77-4C83-994F-8BDDCDF7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4DE-2159-4871-A731-56807DFA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637-2E63-4D01-B03D-634969F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EC67-1442-42AE-9E6F-95C22A0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D03-2D1D-44A5-9327-4C6FA5B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4E74-2B31-483B-A4DE-D59C1BC8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E20-F788-4059-A325-F9CE3295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C34-2880-4B44-A6BC-398FA6E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601-A746-4910-8092-B67C167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69C-D784-4AE6-B153-D2464952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1B7-9D49-402E-A9E0-5344E43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7E4-D309-4F8D-B30F-D58D583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C7B-667D-4373-9318-6E6BEF8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ED76-B1C6-460F-ACAB-99F5BDA14E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1428-1C84-47CD-AFDE-906DEF5AAC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1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8077320" cy="1298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1 by Robin L. Simmons. All Rights Reserved.</dc:description>
  <cp:keywords>pronouns pronoun agreement grammar Grammar Bytes! Robin L. Simmons</cp:keywords>
  <dc:language>en-US</dc:language>
  <cp:lastModifiedBy>Varner, Cheryll</cp:lastModifiedBy>
  <dcterms:modified xsi:type="dcterms:W3CDTF">2011-10-04T13:33:03Z</dcterms:modified>
  <cp:revision>303</cp:revision>
  <dc:subject/>
  <dc:title>Pronoun Agreement</dc:title>
</cp:coreProperties>
</file>